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6540-AA7C-4F3E-8C62-FED7F438B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31E-3953-4135-8510-0B5E0B2A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83F-B047-425F-9981-7B1DFC90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35E-9569-42F3-BC6B-11BEB15E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36F-E6AC-4537-8356-7199402B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F73-548F-4B08-80F1-3C7CB1D6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44D-BE4E-45A4-8C3B-22CBBC17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534-F029-482B-BB4E-9E2B3E99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362-AEAC-4316-B686-1F79B66F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03E-5711-4383-ADAD-D36FCAD9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566-0271-40A0-9813-168FBD49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D2D-64E8-4C17-96AE-4B9D07B1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6EB-CD32-45C6-82C2-4FC33DC1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BF77-30DF-4A0E-B8F7-2AC114B77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9625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have a nucleus that contai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ns an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contain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l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urround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is made of most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shells are filled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 Gase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lement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S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ll containing electrons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nucleus is called the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gases are us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atoms to join together atoms m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, lose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with full valence shel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gain or los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ant to g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ll try to gain or lose electrons to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with a charge is calle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43:07Z</dcterms:created>
  <dc:creator>Doug</dc:creator>
  <dc:description/>
  <dc:language>en-US</dc:language>
  <cp:lastModifiedBy>LEGION</cp:lastModifiedBy>
  <dcterms:modified xsi:type="dcterms:W3CDTF">2017-01-26T09:17:48Z</dcterms:modified>
  <cp:revision>4</cp:revision>
  <dc:subject/>
  <dc:title>Valence Electrons  &amp;  Bohr Diagrams</dc:title>
</cp:coreProperties>
</file>